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C63-CC53-4E4B-879C-D513EDA6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A7E-89BB-42D9-882D-236532F7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6CF-6708-448B-AC06-E9A60F1E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C20-3ADF-4BE9-9656-604B18DB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F254-8903-4DAF-A400-25CB4919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5C1E-AC19-4112-8E75-F1FF5C2D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A0D6-D468-442A-9EF5-D57FADD0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692F-0451-4638-A2A5-995FB23C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AD89-8C33-47EA-B288-1E6EBCE1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F872-BAB7-4F8D-8F41-0A05C3F3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9796-0D57-4F60-9E23-8093E1EB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82F-4ECF-4C1E-91A7-097984B0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7B43-F822-472B-A722-8F1A4AE1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4DFF-62AD-454D-B9E4-08EE9B05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C45A-A95A-497A-A961-00875FFA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8C96-816A-4AC0-A06C-A3557072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0324-59E1-4D8B-8812-0CCE7359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396-0467-46EF-989F-1AEC2D63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67A-6D25-487C-BF96-F23BB244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358-296D-471C-B5DA-A20771B6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E21-F486-4D1F-911B-243DD99A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E05-FE50-4DF0-B252-09294C4D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4F4-7C19-4055-9C67-3551E479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94F-8696-4219-BF45-BDE62C6C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E8AE-193A-46BE-85BA-C1607BFFC3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B022-7EED-4966-9903-B20BF3F1AE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5545080" cy="4546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Kindergarten to Grade 2 / Session #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76212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Md BT"/>
              </a:rPr>
              <a:t>Qua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676520"/>
            <a:ext cx="678204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Quantity represents the “howmanyness” of a number and is a crucial concept in developing number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Having a conceptual understanding of the quantity of five and then of ten are important prerequisites to understanding place value, the operations and fr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An early understanding of quantity helps with concepts around estimating and reasoning with number, particularly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315200" y="3429000"/>
            <a:ext cx="1523160" cy="1751400"/>
            <a:chOff x="7315200" y="3429000"/>
            <a:chExt cx="1523160" cy="1751400"/>
          </a:xfrm>
        </p:grpSpPr>
        <p:sp>
          <p:nvSpPr>
            <p:cNvPr id="161" name=""/>
            <p:cNvSpPr/>
            <p:nvPr/>
          </p:nvSpPr>
          <p:spPr>
            <a:xfrm>
              <a:off x="8455320" y="3993480"/>
              <a:ext cx="383040" cy="476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15200" y="3896280"/>
              <a:ext cx="383040" cy="476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00240" y="4156560"/>
              <a:ext cx="383040" cy="477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71080" y="3432960"/>
              <a:ext cx="383760" cy="4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49200" y="4704120"/>
              <a:ext cx="383760" cy="4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17000" y="3570120"/>
              <a:ext cx="383760" cy="4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79320" y="4024440"/>
              <a:ext cx="383760" cy="4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88640" y="4359960"/>
              <a:ext cx="383040" cy="476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29080" y="4584960"/>
              <a:ext cx="383040" cy="476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65640" y="3429000"/>
              <a:ext cx="383040" cy="476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143000"/>
            <a:ext cx="6870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a Md BT"/>
              </a:rPr>
              <a:t>Quantity and Mathematical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590920"/>
            <a:ext cx="594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Children need continued experience with all types of manipulatives to understand that each quantity also holds within it many smaller qua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Developing a robust sense of quantity helps children with mathematic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77120" y="3429000"/>
            <a:ext cx="2056320" cy="2284560"/>
            <a:chOff x="6477120" y="3429000"/>
            <a:chExt cx="2056320" cy="2284560"/>
          </a:xfrm>
        </p:grpSpPr>
        <p:sp>
          <p:nvSpPr>
            <p:cNvPr id="174" name=""/>
            <p:cNvSpPr/>
            <p:nvPr/>
          </p:nvSpPr>
          <p:spPr>
            <a:xfrm>
              <a:off x="8016120" y="4165200"/>
              <a:ext cx="517320" cy="621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7120" y="4038480"/>
              <a:ext cx="517320" cy="621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26960" y="4377960"/>
              <a:ext cx="517320" cy="6228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87720" y="3434040"/>
              <a:ext cx="518400" cy="621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93200" y="5092200"/>
              <a:ext cx="518400" cy="621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94280" y="3612960"/>
              <a:ext cx="518400" cy="621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38880" y="4205880"/>
              <a:ext cx="518400" cy="621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91120" y="4643280"/>
              <a:ext cx="517320" cy="621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41200" y="4937040"/>
              <a:ext cx="517320" cy="621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20520" y="3429000"/>
              <a:ext cx="517320" cy="621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26920" y="1197000"/>
            <a:ext cx="68709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Md BT"/>
              </a:rPr>
              <a:t>We Need to Revisit Oft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2421000"/>
            <a:ext cx="735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Quantity is not a simple concept that children either have or do not h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Children need experience in repeating similar types of estimation (and checking) activities to build up their conceptual understanding of the amount of some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Resist the temptation to move too quickly into just using numb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National Research Council (NRC) </a:t>
            </a: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port on Early Mathematic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math predicts math success into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display math competence all on their own in their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15640" y="24922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S generally have fewer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9% pass rate from high school if your mom has a bachelor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% pass rate from high school if your mom didn’t graduate from high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llected from the Early Childhood  Longitudin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National Research Council (NRC) </a:t>
            </a:r>
            <a:br>
              <a:rPr sz="4000"/>
            </a:b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Report on Early Mathematic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they are 4 years old, some students know math that other students won’t know until they are 7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real equity concern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National Research Council (NRC) </a:t>
            </a:r>
            <a:br>
              <a:rPr sz="4000"/>
            </a:b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Report on Early Mathematic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math should focus on whole number operations and relations, then geometry, with the mathematical processes integrated through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NCTM Curriculum Focal Poi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National Research Council (NRC) </a:t>
            </a:r>
            <a:br>
              <a:rPr sz="4000"/>
            </a:br>
            <a:r>
              <a:rPr b="1" lang="en-US" sz="4000" spc="-1" strike="noStrike">
                <a:solidFill>
                  <a:srgbClr val="0d469b"/>
                </a:solidFill>
                <a:latin typeface="Arial"/>
              </a:rPr>
              <a:t>Report on Early Mathematic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NRC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port on Early Mathematics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000" y="2285640"/>
            <a:ext cx="84596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0308"/>
                </a:solidFill>
                <a:latin typeface="Arial"/>
              </a:rPr>
              <a:t>Relations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artner numbers – 2 addends of a given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3 year old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t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yrs – Pre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t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≤ 8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partners for 3, 4, and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t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≤ 10 and partners for 6 through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t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≤ 18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all 4 types of situati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n, part/part/whole,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separate, comp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720" y="457200"/>
            <a:ext cx="2209680" cy="1143000"/>
          </a:xfrm>
          <a:prstGeom prst="ellipse">
            <a:avLst/>
          </a:prstGeom>
          <a:solidFill>
            <a:srgbClr val="6498cc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589120"/>
            <a:ext cx="2209680" cy="114300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2589120"/>
            <a:ext cx="2209680" cy="1143000"/>
          </a:xfrm>
          <a:prstGeom prst="ellipse">
            <a:avLst/>
          </a:prstGeom>
          <a:solidFill>
            <a:srgbClr val="ff3131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32004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/>
          <p:nvPr/>
        </p:nvCxnSpPr>
        <p:spPr>
          <a:xfrm rot="5400000">
            <a:off x="2094840" y="1638360"/>
            <a:ext cx="838800" cy="762480"/>
          </a:xfrm>
          <a:prstGeom prst="curvedConnector5">
            <a:avLst>
              <a:gd name="adj1" fmla="val 30656"/>
              <a:gd name="adj2" fmla="val 49976"/>
              <a:gd name="adj3" fmla="val 3065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1371600" y="4191120"/>
            <a:ext cx="1843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4343400"/>
            <a:ext cx="642636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Natasha created 4 paintings on Monday.  On Tuesday she created 3 more.  How many did she create altogethe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08720" y="1268280"/>
            <a:ext cx="2361960" cy="709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228600"/>
            <a:ext cx="6858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35000" y="1905120"/>
            <a:ext cx="61092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4400" y="2514600"/>
            <a:ext cx="61092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48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33720" y="457200"/>
            <a:ext cx="2209680" cy="1143000"/>
          </a:xfrm>
          <a:prstGeom prst="ellipse">
            <a:avLst/>
          </a:prstGeom>
          <a:solidFill>
            <a:srgbClr val="5e94ca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2589120"/>
            <a:ext cx="2210040" cy="114300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2589120"/>
            <a:ext cx="2209680" cy="1143000"/>
          </a:xfrm>
          <a:prstGeom prst="ellipse">
            <a:avLst/>
          </a:prstGeom>
          <a:solidFill>
            <a:srgbClr val="00d800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32004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/>
          <p:nvPr/>
        </p:nvCxnSpPr>
        <p:spPr>
          <a:xfrm flipH="1" flipV="1" rot="5400000">
            <a:off x="2285640" y="1599840"/>
            <a:ext cx="915120" cy="915120"/>
          </a:xfrm>
          <a:prstGeom prst="curvedConnector5">
            <a:avLst>
              <a:gd name="adj1" fmla="val 49980"/>
              <a:gd name="adj2" fmla="val 49980"/>
              <a:gd name="adj3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1600200" y="4114800"/>
            <a:ext cx="6324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arie-Claire made 24 cupcakes for her class.  She had 2 left after class.  How many were eaten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1197000"/>
            <a:ext cx="26672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Separat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228600"/>
            <a:ext cx="76212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1752480"/>
            <a:ext cx="9144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2514600"/>
            <a:ext cx="83844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Futura Lt BT"/>
              </a:rPr>
              <a:t>Welcome to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76360" y="3357720"/>
            <a:ext cx="6400800" cy="6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Futura Lt BT"/>
              </a:rPr>
              <a:t>…</a:t>
            </a:r>
            <a:r>
              <a:rPr b="1" lang="en-US" sz="3900" spc="-1" strike="noStrike">
                <a:solidFill>
                  <a:srgbClr val="000000"/>
                </a:solidFill>
                <a:latin typeface="Futura Lt BT"/>
              </a:rPr>
              <a:t>the exciting world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4365720"/>
            <a:ext cx="8763120" cy="1295280"/>
          </a:xfrm>
          <a:prstGeom prst="rect">
            <a:avLst/>
          </a:prstGeom>
        </p:spPr>
        <p:txBody>
          <a:bodyPr wrap="none" lIns="90000" rIns="90000" tIns="46800" bIns="46800" anchor="ctr" anchorCtr="1" rot="10800000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unting, Developing Early Multiplication Concepts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 Open Ques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664800" y="3355920"/>
            <a:ext cx="12268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38680" y="1982880"/>
            <a:ext cx="3505320" cy="13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Part-Part-Whol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64008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Hailey has 14 pattern blocks.  Ten are squares and the rest are triangles.  How many are triangle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2971800"/>
            <a:ext cx="9144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371600" y="609480"/>
            <a:ext cx="4800600" cy="2514600"/>
            <a:chOff x="1371600" y="609480"/>
            <a:chExt cx="4800600" cy="2514600"/>
          </a:xfrm>
        </p:grpSpPr>
        <p:sp>
          <p:nvSpPr>
            <p:cNvPr id="222" name=""/>
            <p:cNvSpPr/>
            <p:nvPr/>
          </p:nvSpPr>
          <p:spPr>
            <a:xfrm>
              <a:off x="1371600" y="685440"/>
              <a:ext cx="4800600" cy="2438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733920" y="68544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18320" y="1828440"/>
              <a:ext cx="859320" cy="5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75720" y="1828440"/>
              <a:ext cx="859320" cy="5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609480"/>
              <a:ext cx="914400" cy="13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43400" y="609480"/>
              <a:ext cx="914400" cy="13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evt="end">
                                        <p:tn val="188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638680" y="1600200"/>
            <a:ext cx="28195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Compar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1676520"/>
            <a:ext cx="838080" cy="213336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609480"/>
            <a:ext cx="838080" cy="99072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609480"/>
            <a:ext cx="838080" cy="312264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4343400"/>
            <a:ext cx="7467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Krystoff has collected  15 rocks.  Franka has collected 8 rocks.  How many more rocks does Krystoff hav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6400" y="766800"/>
            <a:ext cx="190044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600200"/>
            <a:ext cx="9144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2133720"/>
            <a:ext cx="9144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533520"/>
            <a:ext cx="11430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6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2852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rtner Numbers for 10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41493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the foundations of place value and operational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00000" y="1052640"/>
            <a:ext cx="5038560" cy="504720"/>
            <a:chOff x="900000" y="1052640"/>
            <a:chExt cx="5038560" cy="504720"/>
          </a:xfrm>
        </p:grpSpPr>
        <p:grpSp>
          <p:nvGrpSpPr>
            <p:cNvPr id="240" name=""/>
            <p:cNvGrpSpPr/>
            <p:nvPr/>
          </p:nvGrpSpPr>
          <p:grpSpPr>
            <a:xfrm>
              <a:off x="900000" y="1052640"/>
              <a:ext cx="2519280" cy="504720"/>
              <a:chOff x="900000" y="1052640"/>
              <a:chExt cx="2519280" cy="504720"/>
            </a:xfrm>
          </p:grpSpPr>
          <p:sp>
            <p:nvSpPr>
              <p:cNvPr id="241" name=""/>
              <p:cNvSpPr/>
              <p:nvPr/>
            </p:nvSpPr>
            <p:spPr>
              <a:xfrm>
                <a:off x="2411280" y="1052640"/>
                <a:ext cx="503280" cy="504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00000" y="1052640"/>
                <a:ext cx="2519280" cy="504720"/>
                <a:chOff x="900000" y="1052640"/>
                <a:chExt cx="2519280" cy="504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00000" y="1052640"/>
                  <a:ext cx="503280" cy="50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403280" y="1052640"/>
                  <a:ext cx="503280" cy="50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908000" y="1052640"/>
                  <a:ext cx="503280" cy="50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16000" y="1052640"/>
                  <a:ext cx="503280" cy="50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"/>
            <p:cNvGrpSpPr/>
            <p:nvPr/>
          </p:nvGrpSpPr>
          <p:grpSpPr>
            <a:xfrm>
              <a:off x="3419280" y="1052640"/>
              <a:ext cx="2519280" cy="504720"/>
              <a:chOff x="3419280" y="1052640"/>
              <a:chExt cx="2519280" cy="504720"/>
            </a:xfrm>
          </p:grpSpPr>
          <p:sp>
            <p:nvSpPr>
              <p:cNvPr id="248" name=""/>
              <p:cNvSpPr/>
              <p:nvPr/>
            </p:nvSpPr>
            <p:spPr>
              <a:xfrm>
                <a:off x="4930560" y="1052640"/>
                <a:ext cx="503280" cy="504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3419280" y="1052640"/>
                <a:ext cx="2519280" cy="504720"/>
                <a:chOff x="3419280" y="1052640"/>
                <a:chExt cx="2519280" cy="5047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419280" y="1052640"/>
                  <a:ext cx="503280" cy="50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22560" y="1052640"/>
                  <a:ext cx="503280" cy="5047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427280" y="1052640"/>
                  <a:ext cx="50328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435280" y="1052640"/>
                  <a:ext cx="50328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4" name=""/>
          <p:cNvSpPr/>
          <p:nvPr/>
        </p:nvSpPr>
        <p:spPr>
          <a:xfrm>
            <a:off x="2987640" y="1773360"/>
            <a:ext cx="5040360" cy="718920"/>
          </a:xfrm>
          <a:prstGeom prst="wedgeRoundRectCallout">
            <a:avLst>
              <a:gd name="adj1" fmla="val -47069"/>
              <a:gd name="adj2" fmla="val -107175"/>
              <a:gd name="adj3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is the same as 7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= 7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28240" y="9144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inking to Assessmen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50400" y="1482840"/>
            <a:ext cx="6593400" cy="4440240"/>
            <a:chOff x="950400" y="1482840"/>
            <a:chExt cx="6593400" cy="4440240"/>
          </a:xfrm>
        </p:grpSpPr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 flipH="1">
              <a:off x="3886200" y="2971800"/>
              <a:ext cx="3657600" cy="177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2438280" y="3809880"/>
              <a:ext cx="2210040" cy="21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 rot="20488200">
              <a:off x="941400" y="2368080"/>
              <a:ext cx="5715000" cy="87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Let's see it in action!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o The Math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280" y="1989000"/>
            <a:ext cx="835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t's construct som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tner numbers f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03640" y="4076640"/>
            <a:ext cx="2520720" cy="24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o The Math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you use the idea just presented in an open question that would have students unitize other quantit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antities are the most productive quantities for Kindergarten, Grade 1, and           Grade 2 stud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5280" y="1989000"/>
            <a:ext cx="835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t's construct som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tner numbers for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Open Questions or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n Open Question or task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s one that is inclusive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ing for different students to approach it by using different processes or strate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ing for students at different stages of mathematical development to benefit and grow from attention to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Mindful of “Zone of Proximal Development”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you look at the curriculum expectations, you need to filter them through the Big Idea to which they relate to help you differen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urriculum expec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8000"/>
                </a:solidFill>
                <a:latin typeface="Arial"/>
              </a:rPr>
              <a:t>Solve a variety of problems involving the addition and subtraction of whole numbers to 20,(of two digit numbers with and without regrouping) using concrete materials and drawings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ple:  There are relationships between the four oper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ff"/>
                </a:solidFill>
                <a:latin typeface="Arial"/>
              </a:rPr>
              <a:t>You can represent subtraction as the opposite of addition and vice versa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Possible Open ques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answer to a number sentenc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______  ____  ______ =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is the number sen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K-2 Open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makes 5 a special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What is the Big Idea?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re are many ways to represent a numb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other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the number 7 in as many different ways as you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469b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Everything we do in Kindergarten to Grade 2 is the foundation of later mathematical understa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K-2 Open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two of these numerals. How do they look the same? How do they look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Arial"/>
              </a:rPr>
              <a:t>1   2   3   4   5   6   7   8   9   0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other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answer is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 What is the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K-2 Continue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ll about a time when you would use the number 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What is the Big Idea?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umbers tell how many or how muc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llen ran in a race with some other students.  She did not win, but she was not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Draw a picture that shows how she did in the race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ell or show on the picture how many people were ahead of her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Tell or show on the picture how many people were behind her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What word would you use to tell about her positio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20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2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More K-2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5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number for the second mark on the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um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3141720"/>
            <a:ext cx="633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436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7672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59280" y="3429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IG IDEA:  Number benchmarks are useful for relating numbers and estimating am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4784760"/>
            <a:ext cx="727236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other 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reate a sentence that uses each of the four numbers and words shown:                               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, more, 5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ome answ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 and 5 are more than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5 is more than 3 and 2 is more than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53 + 3 is more than 28 and 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Open questions.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are the numbers 10 and 15 alike? How are they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Big Idea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The patterns in the place value system can make it easier to interpret and operate with numb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two-digit number has more tens than ones. What could the number be? How do you know your number 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K-2 Operations *****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ig Idea: There are many different ways to add, subtract, multiply or div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up an addition question where there is a 2, 3, and a 4 somewhere in the question or the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 + 34 = 36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2 + 3 + 4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r 23 + 43 + 25 = 9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o The Math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692360" y="1989000"/>
            <a:ext cx="5832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t's do a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pen questio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sed 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203640" y="4076640"/>
            <a:ext cx="2520720" cy="24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lements of the bansho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from left to right. If you must rearrange, keep in mind the left-to-right prog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nformation do we need to solve this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at ways does the student work show a conceptual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student work you will use to coordinate the discussion (2 +) around the big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student work to bring out the mathematics and how to represent mathematical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onsolidating question to allow a big idea /  highlight / summary to emerge. Record this idea promin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What happens when we add students?</a:t>
            </a: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lasses of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into JK/SK, Grade 1, and           Grade 1/2 (mostly Grade 2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watch some video of the JK/SK students at wor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531600" y="3804120"/>
            <a:ext cx="5175360" cy="2693160"/>
            <a:chOff x="3531600" y="3804120"/>
            <a:chExt cx="5175360" cy="26931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 flipH="1">
              <a:off x="5817960" y="4845960"/>
              <a:ext cx="28890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4674600" y="5315040"/>
              <a:ext cx="1745640" cy="118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 txBox="1"/>
            <p:nvPr/>
          </p:nvSpPr>
          <p:spPr>
            <a:xfrm rot="20488200">
              <a:off x="3492360" y="4508640"/>
              <a:ext cx="4514040" cy="49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Let's see it in action!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What happens when we add students?</a:t>
            </a: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into groups to discuss the student work in the problem-solving lesson for the grade you t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in your grou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you would do to consolidate this lesson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THERE IS NO SINGLE RIGHT ANSWER!</a:t>
            </a:r>
            <a:r>
              <a:rPr b="0" lang="en-US" sz="2800" spc="-1" strike="noStrike">
                <a:solidFill>
                  <a:srgbClr val="e703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469b"/>
                </a:solidFill>
                <a:latin typeface="Futura Md BT"/>
              </a:rPr>
              <a:t>Big Ideas in NS&amp;N that pertain to PR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6920" y="14842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utura Lt BT"/>
              </a:rPr>
              <a:t>Numbers tell how many or how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Lt BT"/>
              </a:rPr>
              <a:t>Classifying numbers or numerical relationships provides information about the characteristics of the numbers or the relationship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Lt BT"/>
              </a:rPr>
              <a:t>There are many equivalent representations for a number or numerical relationship. Each representation may emphasize something different about that number or relationshi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utura Lt BT"/>
              </a:rPr>
              <a:t>Our number system of ones, tens, and hundreds helps us know whether we have some, many and very 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utura L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Lt BT"/>
              </a:rPr>
              <a:t>The operations of addition, subtraction, multiplication and division hold the same fundamental meaning no matter the domain to which they are appl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tting all the pieces together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a 3 part lesson plan based on the problem you have seen, with questions for your grade level – lesson goal, scaffolding questions, consolidating question, et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like, you may choose to re-write the problem as a parallel task – in this case, include common question you might 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Individual </a:t>
            </a:r>
            <a:r>
              <a:rPr b="1" lang="en-CA" sz="4000" spc="-1" strike="noStrike">
                <a:solidFill>
                  <a:srgbClr val="0d469b"/>
                </a:solidFill>
                <a:latin typeface="Wingdings"/>
                <a:ea typeface="Wingdings"/>
              </a:rPr>
              <a:t></a:t>
            </a:r>
            <a:r>
              <a:rPr b="1" lang="en-CA" sz="4000" spc="-1" strike="noStrike">
                <a:solidFill>
                  <a:srgbClr val="0d469b"/>
                </a:solidFill>
                <a:latin typeface="Arial"/>
              </a:rPr>
              <a:t>reflection</a:t>
            </a:r>
            <a:br>
              <a:rPr sz="4000"/>
            </a:b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ke a picture of the way you see the relationship of the big ideas to the learning goals, questions the 3 part lesson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is is how you see it right now – it will change as you re-schematiz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Practice – writing open question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resource you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some closed questions and practice opening them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View Details"/>
          <p:cNvPicPr/>
          <p:nvPr/>
        </p:nvPicPr>
        <p:blipFill>
          <a:blip r:embed="rId1"/>
          <a:stretch/>
        </p:blipFill>
        <p:spPr>
          <a:xfrm>
            <a:off x="3492360" y="3984480"/>
            <a:ext cx="2519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eflect and Connec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anything you would like to add to your journa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fill in your                                    feedback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want to                                                        add anything to our                                                   math journey mu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932360" y="2852640"/>
            <a:ext cx="28926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 rot="20073600">
            <a:off x="171360" y="3068280"/>
            <a:ext cx="897264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e you tomorrow for more learning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685800"/>
            <a:ext cx="32004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utura Md BT"/>
              </a:rPr>
              <a:t>Cou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523880"/>
            <a:ext cx="73152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ZapfDingba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Futura Md BT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Counting involves both reciting a series of numbers and representing a quantity by a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0000"/>
              <a:buFont typeface="ZapfDingba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ZapfDingba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First experiences with counting are not initially attached to an understanding of the quantity or value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0000"/>
              <a:buFont typeface="ZapfDingba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ZapfDingba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  </a:t>
            </a: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Counting is a powerful early tool and is intricately connected to the </a:t>
            </a: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other four ‘Big Idea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Futura Md BT"/>
              </a:rPr>
              <a:t>	</a:t>
            </a:r>
            <a:r>
              <a:rPr b="1" lang="en-GB" sz="2400" spc="-1" strike="noStrike">
                <a:solidFill>
                  <a:srgbClr val="333399"/>
                </a:solidFill>
                <a:latin typeface="Futura Md B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5486400"/>
            <a:ext cx="719280" cy="915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33720" y="4876920"/>
            <a:ext cx="868320" cy="17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33920" y="5562720"/>
            <a:ext cx="914400" cy="876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410080" y="5562720"/>
            <a:ext cx="1249560" cy="912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238880" y="5105520"/>
            <a:ext cx="152424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286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2286000"/>
            <a:ext cx="7377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Futura Md BT"/>
              </a:rPr>
              <a:t>Let’s review the Counting Principles that apply to building multiplicative thinking (and underpin proportional reasoning…</a:t>
            </a:r>
            <a:r>
              <a:rPr b="0" lang="en-US" sz="2400" spc="-1" strike="noStrike">
                <a:solidFill>
                  <a:srgbClr val="333399"/>
                </a:solidFill>
                <a:latin typeface="Futura Md BT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4572000"/>
            <a:ext cx="3505320" cy="9907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68580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Principles of Cou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752480"/>
            <a:ext cx="7848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Md BT"/>
              </a:rPr>
              <a:t>Movement is Magnitude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43000" y="3352680"/>
            <a:ext cx="2048040" cy="1866960"/>
            <a:chOff x="1143000" y="3352680"/>
            <a:chExt cx="2048040" cy="1866960"/>
          </a:xfrm>
        </p:grpSpPr>
        <p:sp>
          <p:nvSpPr>
            <p:cNvPr id="107" name=""/>
            <p:cNvSpPr/>
            <p:nvPr/>
          </p:nvSpPr>
          <p:spPr>
            <a:xfrm>
              <a:off x="2218680" y="3352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143000" y="4038480"/>
              <a:ext cx="2048040" cy="1181160"/>
              <a:chOff x="1143000" y="4038480"/>
              <a:chExt cx="2048040" cy="1181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143000" y="4038480"/>
                <a:ext cx="137160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4267080"/>
                <a:ext cx="174312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1" name=""/>
          <p:cNvGrpSpPr/>
          <p:nvPr/>
        </p:nvGrpSpPr>
        <p:grpSpPr>
          <a:xfrm>
            <a:off x="1143000" y="2590920"/>
            <a:ext cx="3343320" cy="1447560"/>
            <a:chOff x="1143000" y="2590920"/>
            <a:chExt cx="3343320" cy="1447560"/>
          </a:xfrm>
        </p:grpSpPr>
        <p:sp>
          <p:nvSpPr>
            <p:cNvPr id="112" name=""/>
            <p:cNvSpPr/>
            <p:nvPr/>
          </p:nvSpPr>
          <p:spPr>
            <a:xfrm>
              <a:off x="3513960" y="3352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143000" y="2590920"/>
              <a:ext cx="3343320" cy="1447560"/>
              <a:chOff x="1143000" y="2590920"/>
              <a:chExt cx="3343320" cy="144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1143000" y="4038480"/>
                <a:ext cx="266688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43200" y="2590920"/>
                <a:ext cx="174312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6" name=""/>
          <p:cNvGrpSpPr/>
          <p:nvPr/>
        </p:nvGrpSpPr>
        <p:grpSpPr>
          <a:xfrm>
            <a:off x="1143000" y="3352680"/>
            <a:ext cx="4562640" cy="1791000"/>
            <a:chOff x="1143000" y="3352680"/>
            <a:chExt cx="4562640" cy="1791000"/>
          </a:xfrm>
        </p:grpSpPr>
        <p:sp>
          <p:nvSpPr>
            <p:cNvPr id="117" name=""/>
            <p:cNvSpPr/>
            <p:nvPr/>
          </p:nvSpPr>
          <p:spPr>
            <a:xfrm>
              <a:off x="4809240" y="3352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43000" y="4038480"/>
              <a:ext cx="4562640" cy="1105200"/>
              <a:chOff x="1143000" y="4038480"/>
              <a:chExt cx="4562640" cy="1105200"/>
            </a:xfrm>
          </p:grpSpPr>
          <p:sp>
            <p:nvSpPr>
              <p:cNvPr id="119" name=""/>
              <p:cNvSpPr/>
              <p:nvPr/>
            </p:nvSpPr>
            <p:spPr>
              <a:xfrm>
                <a:off x="1143000" y="4038480"/>
                <a:ext cx="388620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2520" y="4191120"/>
                <a:ext cx="174312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1" name=""/>
          <p:cNvGrpSpPr/>
          <p:nvPr/>
        </p:nvGrpSpPr>
        <p:grpSpPr>
          <a:xfrm>
            <a:off x="1143000" y="2590920"/>
            <a:ext cx="5934240" cy="1447560"/>
            <a:chOff x="1143000" y="2590920"/>
            <a:chExt cx="5934240" cy="1447560"/>
          </a:xfrm>
        </p:grpSpPr>
        <p:sp>
          <p:nvSpPr>
            <p:cNvPr id="122" name=""/>
            <p:cNvSpPr/>
            <p:nvPr/>
          </p:nvSpPr>
          <p:spPr>
            <a:xfrm>
              <a:off x="5876280" y="3352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143000" y="2590920"/>
              <a:ext cx="5934240" cy="1447560"/>
              <a:chOff x="1143000" y="2590920"/>
              <a:chExt cx="5934240" cy="1447560"/>
            </a:xfrm>
          </p:grpSpPr>
          <p:sp>
            <p:nvSpPr>
              <p:cNvPr id="124" name=""/>
              <p:cNvSpPr/>
              <p:nvPr/>
            </p:nvSpPr>
            <p:spPr>
              <a:xfrm>
                <a:off x="1143000" y="4038480"/>
                <a:ext cx="518148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34120" y="2590920"/>
                <a:ext cx="174312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6" name=""/>
          <p:cNvGrpSpPr/>
          <p:nvPr/>
        </p:nvGrpSpPr>
        <p:grpSpPr>
          <a:xfrm>
            <a:off x="1143000" y="3352680"/>
            <a:ext cx="7153200" cy="1791000"/>
            <a:chOff x="1143000" y="3352680"/>
            <a:chExt cx="7153200" cy="1791000"/>
          </a:xfrm>
        </p:grpSpPr>
        <p:sp>
          <p:nvSpPr>
            <p:cNvPr id="127" name=""/>
            <p:cNvSpPr/>
            <p:nvPr/>
          </p:nvSpPr>
          <p:spPr>
            <a:xfrm>
              <a:off x="7247880" y="3352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143000" y="4038480"/>
              <a:ext cx="7153200" cy="1105200"/>
              <a:chOff x="1143000" y="4038480"/>
              <a:chExt cx="7153200" cy="1105200"/>
            </a:xfrm>
          </p:grpSpPr>
          <p:sp>
            <p:nvSpPr>
              <p:cNvPr id="129" name=""/>
              <p:cNvSpPr/>
              <p:nvPr/>
            </p:nvSpPr>
            <p:spPr>
              <a:xfrm>
                <a:off x="1143000" y="4038480"/>
                <a:ext cx="632448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53080" y="4191120"/>
                <a:ext cx="1743120" cy="952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68580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utura Md BT"/>
              </a:rPr>
              <a:t>Principles of Cou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676520"/>
            <a:ext cx="7848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Md BT"/>
              </a:rPr>
              <a:t>Unit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895480"/>
            <a:ext cx="6933960" cy="2743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8954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8954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3352680"/>
            <a:ext cx="693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2895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Futura Md BT"/>
              </a:rPr>
              <a:t>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73400" y="457200"/>
            <a:ext cx="6870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Md BT"/>
              </a:rPr>
              <a:t>From Five to T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5238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Children build on their concept of 5 to develop a concept of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They consolidate their concept of quantities of 10 in relation to the teens and dec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3300"/>
                </a:solidFill>
                <a:latin typeface="Futura Md BT"/>
              </a:rPr>
              <a:t>They can use this foundation to understand that the digit 1 in 10 represents a bundle of 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20960" y="5227560"/>
            <a:ext cx="332892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49520" y="4343400"/>
            <a:ext cx="1116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8440" y="4359240"/>
            <a:ext cx="10800" cy="18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4560" y="5405400"/>
            <a:ext cx="4510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67240" y="5405400"/>
            <a:ext cx="4492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16360" y="4424400"/>
            <a:ext cx="45072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43480" y="4430880"/>
            <a:ext cx="44892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5435640"/>
            <a:ext cx="45072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5800" y="4430880"/>
            <a:ext cx="4492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05360" y="5389560"/>
            <a:ext cx="4492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81600" y="4414680"/>
            <a:ext cx="45072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56240" y="5419800"/>
            <a:ext cx="45072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33920" y="4414680"/>
            <a:ext cx="44928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4343400"/>
            <a:ext cx="335268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4359240"/>
            <a:ext cx="12600" cy="18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40320" y="4343400"/>
            <a:ext cx="11160" cy="18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Glynnis Fleming</cp:lastModifiedBy>
  <dcterms:modified xsi:type="dcterms:W3CDTF">2010-08-17T23:49:45Z</dcterms:modified>
  <cp:revision>139</cp:revision>
  <dc:subject/>
  <dc:title>Slide 1</dc:title>
</cp:coreProperties>
</file>